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FDC7-303F-42E2-85F6-C73B036CC2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4B78-C210-468E-928C-47CCCDF4D24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91D-FCF9-4E14-855A-076BE167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936-8396-45F3-8411-71011928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970-FDB6-4C76-8D16-BB56C7DB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C71-7682-4119-88CF-D49002D2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346B-178E-4261-B184-BFEB1A28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59D-3D55-415D-A7AD-E2D64854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E51D-5C24-4FD7-B8DE-05205BE0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93A8-B3C3-48F9-A385-5AD8B16C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CA9C-1FEB-4BC7-A6F7-FCFD2F5C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2CC3-8D7D-4B0B-B383-99D544C5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3144-EA2F-4B12-880C-57641AD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089-86C5-4C91-935C-E7074BF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BA17-0D4A-4646-849C-05763E4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2C04-E985-4067-AE08-BB18594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A726-2294-4241-B4FE-43E2A33A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427A-8910-4BD7-BA6B-64451F09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8F8F-933E-440B-9BAC-B6E39F01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91581-F370-46F8-8121-EC535466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06F22-21F4-49B1-8EFE-A5EBDEED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22DDC-8C68-43C5-8B79-1584B3AD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8D2F0-A50B-4804-AC13-84FB147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B8FB1-1D10-4E76-847D-546F3751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33E-38E7-4697-9B57-F18C96A0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89484-E667-41B8-9B20-CA642AF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84AD0-BB6C-4E79-88D1-A521D739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A3B7A-62EA-416A-AB3E-9B372011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0450A-1E72-4757-845A-DB7A1A5F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D4883-53DF-48AF-9C0D-CEDBD5F4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4ADF9-A148-4856-9C4A-5E1B3E67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6D290-27E1-4475-8856-81F24388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16B57-5E85-4753-BCF4-9945702C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5495-2297-4482-9594-28FBE853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4BE5F-6313-4F8C-AD46-FEB67105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7C0-784F-4DD6-B959-79AF064F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9217-8527-4FA8-9986-299A68B8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3768-94EF-4226-A990-8F34934C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BF600-F4E6-4566-8991-0130066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F5527-2A82-4974-8859-6C06048D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0126A-A754-44AB-8E65-255880EE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7F14E-0DFF-427A-8416-F8F71DBD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C016-E12B-4D60-8533-6BCED794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392C-AACB-43EC-BD04-91F955C4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60BC1-8BD5-4805-80CC-B3FA46A9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80162-99CA-48B1-8A4E-A6EBD69A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ABD-1F4A-4F7B-AA6D-8B10686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2557D-33F1-4432-B908-D5F222ED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8CE41-B740-4D68-B54B-45833016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8C456-958B-403C-A6DD-68087B79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BB466-56CF-4D52-BD45-2E3ECCAA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5CFDA-1943-4C54-859B-80740DB7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256CB-ED18-45F3-B7F7-F40A0F0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AC0AF-10D7-414C-A768-8B828CC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F7C70-2B9D-427F-BEB0-883D599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4CCFA-2F65-427F-BC11-85304F0D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C1423-00C3-411C-BEC6-BC10358F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104-D9F2-4147-9425-51D20C71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77502-FB62-4F78-A9AA-E310E748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12708-A350-4343-BB7C-0F15E39F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3E84A-756D-4738-BD7C-BAC7153E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2E54E-217A-450E-BFF9-380171FB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AE895-55FE-4434-A7C6-1FCAB0AC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2CB42-49AF-44B5-B35C-AB06E3F8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1442C-8F4D-4FFA-8FA7-63E1A19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4B691-5B6B-4CEB-A381-77F5DF3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BAB17-A267-4175-973D-99533CC2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6B29E-9411-4BE7-A750-410DECC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979-A50C-41CB-9200-CAB7E80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597A8-2C51-48E4-99CD-60AA0A35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5DADC-5FB5-4095-B423-435BB096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88224-8C1C-42DA-BE08-B66A2C5B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96C4D-B7CC-4663-B8AE-A341BD92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2B8BE-0402-4BFB-9E3C-82CFDAE2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3221B-8351-406E-87D2-80C93A10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2DAA1-BC1C-40A7-8ABD-8FA8AA9E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E0845-2EC7-48AF-B752-366CABE1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232CE-8AA3-4FE7-8B36-2F9B53F0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94B26E-5191-4256-8FF0-319DC33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CE9-CF74-46C4-870F-5333E15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4CD68-4E20-40C8-BA08-2D91D8CA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D71EF-2862-4FF8-BC3E-6786633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A1DD1-EA45-4BE5-BA62-EB62C5F6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A7CCB-4F2B-401B-B204-02564C65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794F5-CB7D-47EC-B623-E51BF374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28D-157F-47F5-A531-0EEE358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5B89-AF35-4160-91E3-CDB795154F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26C8-0C88-4B3D-9B44-4D3B06BB75C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C148-7F23-40BC-BDCE-5E171E2575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E24A-8C9A-482B-8C7B-D2EF13BDE2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C904-0B8D-4A8E-A5A3-6FBD71A699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70FC-C083-4AEF-BCB0-D9E620DB56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C981-29D0-4098-B1A4-8FC1AF211E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73360" y="2215800"/>
            <a:ext cx="493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3f68"/>
                </a:solidFill>
                <a:latin typeface="Cambria"/>
              </a:rPr>
              <a:t> </a:t>
            </a:r>
            <a:r>
              <a:rPr b="1" i="1" lang="ru-RU" sz="4400" spc="-1" strike="noStrike">
                <a:solidFill>
                  <a:srgbClr val="3e3f68"/>
                </a:solidFill>
                <a:latin typeface="Arial Unicode MS"/>
              </a:rPr>
              <a:t>ГЕРБ -ПАННО</a:t>
            </a:r>
            <a:br>
              <a:rPr sz="4400"/>
            </a:br>
            <a:r>
              <a:rPr b="1" i="1" lang="ru-RU" sz="3200" spc="-1" strike="noStrike">
                <a:solidFill>
                  <a:srgbClr val="3e3f68"/>
                </a:solidFill>
                <a:latin typeface="Arial Unicode MS"/>
              </a:rPr>
              <a:t>Г. </a:t>
            </a:r>
            <a:r>
              <a:rPr b="1" i="1" lang="ru-RU" sz="4400" spc="-1" strike="noStrike">
                <a:solidFill>
                  <a:srgbClr val="3e3f68"/>
                </a:solidFill>
                <a:latin typeface="Arial Unicode MS"/>
              </a:rPr>
              <a:t>ОЛЕНЕГОРСКА </a:t>
            </a:r>
            <a:br>
              <a:rPr sz="4400"/>
            </a:br>
            <a:r>
              <a:rPr b="1" i="1" lang="ru-RU" sz="1400" spc="-1" strike="noStrike">
                <a:solidFill>
                  <a:srgbClr val="3e3f68"/>
                </a:solidFill>
                <a:latin typeface="Arial Unicode MS"/>
              </a:rPr>
              <a:t>В ТЕХНИКЕ «</a:t>
            </a:r>
            <a:r>
              <a:rPr b="0" i="1" lang="ru-RU" sz="1400" spc="-1" strike="noStrike">
                <a:solidFill>
                  <a:srgbClr val="3e3f68"/>
                </a:solidFill>
                <a:latin typeface="Arial Unicode MS"/>
              </a:rPr>
              <a:t>АЛ</a:t>
            </a:r>
            <a:r>
              <a:rPr b="1" i="1" lang="ru-RU" sz="1400" spc="-1" strike="noStrike">
                <a:solidFill>
                  <a:srgbClr val="3e3f68"/>
                </a:solidFill>
                <a:latin typeface="Arial Unicode MS"/>
              </a:rPr>
              <a:t>МАЗНАЯ МОЗАИКА»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022120" y="4910040"/>
            <a:ext cx="4662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одготовила: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Акулова Надежда Владимировна,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МБОУ ООШ №7  г. Оленегорс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Users\Женя\Documents\Презенташки\Новая папка (3)\Полярный\Murmansk_region.png"/>
          <p:cNvPicPr/>
          <p:nvPr/>
        </p:nvPicPr>
        <p:blipFill>
          <a:blip r:embed="rId1"/>
          <a:stretch/>
        </p:blipFill>
        <p:spPr>
          <a:xfrm>
            <a:off x="6076800" y="0"/>
            <a:ext cx="3067200" cy="2643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C:\Users\Женя\Documents\Презенташки\Новая папка (3)\Полярный\64px-Red_pog.svg.png"/>
          <p:cNvPicPr/>
          <p:nvPr/>
        </p:nvPicPr>
        <p:blipFill>
          <a:blip r:embed="rId2"/>
          <a:stretch/>
        </p:blipFill>
        <p:spPr>
          <a:xfrm>
            <a:off x="7318440" y="121428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3657788_32c6e63e"/>
          <p:cNvPicPr/>
          <p:nvPr/>
        </p:nvPicPr>
        <p:blipFill>
          <a:blip r:embed="rId3"/>
          <a:stretch/>
        </p:blipFill>
        <p:spPr>
          <a:xfrm>
            <a:off x="6407280" y="3933720"/>
            <a:ext cx="2736720" cy="272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5480" y="549000"/>
            <a:ext cx="84294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ЛИТЕРАТУР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961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рчинова О.В. «Декоративно-прикладное творчество» Ростов на Дану «Феникс» 2002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ьяццари Сюзи «Цвет в интерьере вашего дома», издательство «Кристина- Новый век». 2007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Все для рукоделия» - интернет магазин., http://www.livemaster.ru/tvori-c-nam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https://www.livemaster.ru/topic/1597156-almaznaya-mozaika-tehnika-vypolneniy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лмазная мозайка - rykovodstvo.ru›exspl/56424/index.html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Журнал «Школа и производство» - 2014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868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e75c01"/>
                </a:solidFill>
                <a:uFillTx/>
                <a:latin typeface="Times New Roman"/>
                <a:ea typeface="Times New Roman"/>
              </a:rPr>
              <a:t>СПАСИБО ЗА ВНИМАНИЕ </a:t>
            </a:r>
            <a:r>
              <a:rPr b="1" i="1" lang="ru-RU" sz="4800" spc="-1" strike="noStrike" u="sng">
                <a:solidFill>
                  <a:srgbClr val="e75c01"/>
                </a:solidFill>
                <a:uFillTx/>
                <a:latin typeface="Monotype Corsiva"/>
              </a:rPr>
              <a:t>!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Picture 7" descr="C:\Users\Женя\Desktop\Коллекция картинок (Microsoft)\Новая папка\j0410909.wmf"/>
          <p:cNvPicPr/>
          <p:nvPr/>
        </p:nvPicPr>
        <p:blipFill>
          <a:blip r:embed="rId1"/>
          <a:stretch/>
        </p:blipFill>
        <p:spPr>
          <a:xfrm>
            <a:off x="2843280" y="3841920"/>
            <a:ext cx="3000240" cy="242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99640" y="3357720"/>
            <a:ext cx="777564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3e3f68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Century Schoolbook"/>
              </a:rPr>
              <a:t> 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б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нем. «наследство или наследие») - знак отличия, важнейшая эмблема государства, города, области, а также отдельных лиц и родов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5" descr="image011"/>
          <p:cNvPicPr/>
          <p:nvPr/>
        </p:nvPicPr>
        <p:blipFill>
          <a:blip r:embed="rId1"/>
          <a:stretch/>
        </p:blipFill>
        <p:spPr>
          <a:xfrm>
            <a:off x="6804000" y="4149720"/>
            <a:ext cx="2141640" cy="2233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C:\Users\Женя\Documents\Коллекция картинок\Письмо\КАРАНДАШ 2.wmf"/>
          <p:cNvPicPr/>
          <p:nvPr/>
        </p:nvPicPr>
        <p:blipFill>
          <a:blip r:embed="rId2"/>
          <a:stretch/>
        </p:blipFill>
        <p:spPr>
          <a:xfrm>
            <a:off x="0" y="357120"/>
            <a:ext cx="2173320" cy="281484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6"/>
          <p:cNvSpPr/>
          <p:nvPr/>
        </p:nvSpPr>
        <p:spPr>
          <a:xfrm>
            <a:off x="681120" y="4349880"/>
            <a:ext cx="640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buClr>
                <a:srgbClr val="3e3f68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92a45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занимающаяся изучением и составлением гербов, называ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альдикой (гербоведение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"/>
          <p:cNvSpPr/>
          <p:nvPr/>
        </p:nvSpPr>
        <p:spPr>
          <a:xfrm>
            <a:off x="2627280" y="344520"/>
            <a:ext cx="6192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Calibri"/>
              </a:rPr>
              <a:t>дать понятие о геральдике, научить обучающихся изготовить герб-панно в технике «Алмазная моза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1908000" y="1033560"/>
            <a:ext cx="691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историей появления герба и технологией изготовления в технике «Алмазная моза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истории и культуре своего города, эстетический вкус, творческое мыш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в ходе совместной планомерной деятельности умение обучаться приёмам выполнения герба-панно в технике «Алмазная моза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54720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ГЕРБ   ОЛЕНЕГОРСК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372000" y="2781000"/>
            <a:ext cx="21762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негорск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нтр муниципального округа с подведомственной территорией. Расположен в 94 км к югу от Мурманс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928800"/>
            <a:ext cx="6143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утвержден </a:t>
            </a:r>
            <a:r>
              <a:rPr b="1" lang="ru-RU" sz="22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8 марта 2003 го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Описание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лазоревом поле на возникающей черной, окаймленной зеленью пирамиде - идущий золотой олень и вокруг него, поверх всего - 26 уложенных в кольцо золотых безантов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Символика герба:</a:t>
            </a:r>
            <a:r>
              <a:rPr b="1" lang="ru-RU" sz="22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й олень-символ города,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пирающегося на земную пирамиду, которая обозначает холмистую возвышенность, характерную особенность местного региона и наложенную на него черную пирамиду – недра с полезными ископаемыми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Лазоревый цвет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ая ночь, красота и велич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Золот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личество «безантов» (26) обозначает порядковый номер железа в таблице Менделеева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6" descr="C:\Users\Acer\Desktop\olenegorsk.gif"/>
          <p:cNvPicPr/>
          <p:nvPr/>
        </p:nvPicPr>
        <p:blipFill>
          <a:blip r:embed="rId1"/>
          <a:stretch/>
        </p:blipFill>
        <p:spPr>
          <a:xfrm>
            <a:off x="6732720" y="549360"/>
            <a:ext cx="169524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46784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СТАРЫЙ  ГЕРБ ОЛЕНЕГОРСК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63356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утвержден </a:t>
            </a:r>
            <a:r>
              <a:rPr b="1" lang="ru-RU" sz="18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в 80 го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, пересеченный золотым поясом с зубчатым выступом внизу, образующий оконечность черного цвета с золотым условным химическим знаком железа (Fe) посередине. В верхнем серебряном поле золотые квадрат, наложенный на «розу ветров» с буквой N вместо верхнего луча и положенные в косой крест молоток и штангенциркуль. На квадрате надпись 1949 — год образования города. На гербах изображены символы мореплавания и промышлен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Символика герба: </a:t>
            </a:r>
            <a:r>
              <a:rPr b="0" lang="ru-RU" sz="1800" spc="-1" strike="noStrike">
                <a:solidFill>
                  <a:srgbClr val="0d0d0d"/>
                </a:solidFill>
                <a:latin typeface="Century Schoolbook"/>
              </a:rPr>
              <a:t>Пояс, символизирующий железорудный карьер, молоток, штангенцир-куль и химический знак Fe говорят о преобладающей профессии жителей города, работающих на горно-обогатительном предприятии, дающем стране железный концентрат. «Роза ветров» с буквой «N» подчеркивает местоположение города на Север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6" descr="C:\Users\Acer\Desktop\olenegorsk-old-big.png"/>
          <p:cNvPicPr/>
          <p:nvPr/>
        </p:nvPicPr>
        <p:blipFill>
          <a:blip r:embed="rId1"/>
          <a:stretch/>
        </p:blipFill>
        <p:spPr>
          <a:xfrm>
            <a:off x="6732720" y="1916280"/>
            <a:ext cx="1726920" cy="2336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Цвета-символы, которые используются в геральдике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Прямоугольник 1"/>
          <p:cNvSpPr/>
          <p:nvPr/>
        </p:nvSpPr>
        <p:spPr>
          <a:xfrm>
            <a:off x="755640" y="1125360"/>
            <a:ext cx="734544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(червлень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мужества и храбр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елёный (зелень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надежды, радости, изобил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Голубой (лазурь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красоты, величия,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Темно-красный (пурпур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силы и могу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(чернь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печали, смирения, благоразум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dfe3ee"/>
                </a:solidFill>
                <a:latin typeface="Times New Roman"/>
                <a:ea typeface="Times New Roman"/>
              </a:rPr>
              <a:t>Серебр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чист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ло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мвол богатства, справедливости, великодуш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6264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ПРАКТИЧЕСКАЯ ЗНАЧИМОСТЬ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23640" y="1125000"/>
            <a:ext cx="7993080" cy="27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едставленная работа выполнена в технике «алмазная вышивка (мозаика)»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«Алмазная мозаика или алмазная вышивка — вид творчества, при котором картина выкладывается круглыми стразами или квадратными «камнями» на холсте с клейкой основой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алмазной вышивки, как искусства и ее практическая ценность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т в том, что вполне можно при некоторой сноровке украсить неповторимым и оригинальным рисунком самые разные собственные вещи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этого вышивка открывает и совершенно уникальные возможности для изготовления сувениров и подарков своими рукам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Оригина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4" descr="C:\Users\Acer\Desktop\xRyZVghsHQA.jpg"/>
          <p:cNvPicPr/>
          <p:nvPr/>
        </p:nvPicPr>
        <p:blipFill>
          <a:blip r:embed="rId1"/>
          <a:srcRect l="3661" t="0" r="4857" b="0"/>
          <a:stretch/>
        </p:blipFill>
        <p:spPr>
          <a:xfrm>
            <a:off x="544680" y="0"/>
            <a:ext cx="907920" cy="119376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2"/>
          <p:cNvSpPr/>
          <p:nvPr/>
        </p:nvSpPr>
        <p:spPr>
          <a:xfrm>
            <a:off x="544680" y="4149720"/>
            <a:ext cx="769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мозаика – старинная техника, ей находится место и в современном мире, потому, что сейчас ценится все экологически чистое и сделанное своими руками. Мы любим свой маленький, чистый и уютный город Оленегорск. В Поэтому предлаг2024 году город будет отмечать свой 75-летний юбилей. Вот к юбилею нашего любимого города предлагаю изготовить символ нашего города – Герб-панно в этой оригинальной технике. Такое сувенирное изделие, недорогое, многие могут приобрести для себя или в качестве подарка родным и близким, как частицу своей малой Роди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688176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Прямоугольник 1"/>
          <p:cNvSpPr/>
          <p:nvPr/>
        </p:nvSpPr>
        <p:spPr>
          <a:xfrm>
            <a:off x="539640" y="1125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рукоделия основана на выкладке сюжетов по схемам стразами. В отличие от вышивок крестом или бисером, здесь не нужны иголка и ни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ная техника появилась в Древней Греции до нашей эры. Все началось с украшения одежды. Драгоценными камнями и жемчугом мастерицы выкладывали узоры на рукавах и воротниках, закрепляя их самодельным клеем или вос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ременем технология усовершенствовалась. В средневековье появился стеклярус, который считают прародителем алмазной живопи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«заполнения цветом картинки» в XXI веке из-за развития технологий и усовершенствовалась. Сегодня ее используют для оформления панно, декорирования интерьерных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" descr="https://rt-toys.ru/upload/iblock/cc4/7mfgqyf33cbkqupsbrjwzfrovws2s9u7.jpeg"/>
          <p:cNvPicPr/>
          <p:nvPr/>
        </p:nvPicPr>
        <p:blipFill>
          <a:blip r:embed="rId1"/>
          <a:stretch/>
        </p:blipFill>
        <p:spPr>
          <a:xfrm>
            <a:off x="649440" y="44038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3" descr="https://zvetnoe.ru/upload/catalog/2017/12/V-57.jpg"/>
          <p:cNvPicPr/>
          <p:nvPr/>
        </p:nvPicPr>
        <p:blipFill>
          <a:blip r:embed="rId2"/>
          <a:stretch/>
        </p:blipFill>
        <p:spPr>
          <a:xfrm>
            <a:off x="2916360" y="4278240"/>
            <a:ext cx="3095640" cy="2201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https://paper-land.ru/wp-content/uploads/9/5/d/95de9a4e11eea50dd17bf1af1838fb71.jpeg"/>
          <p:cNvPicPr/>
          <p:nvPr/>
        </p:nvPicPr>
        <p:blipFill>
          <a:blip r:embed="rId3"/>
          <a:stretch/>
        </p:blipFill>
        <p:spPr>
          <a:xfrm>
            <a:off x="6257880" y="4371840"/>
            <a:ext cx="1990800" cy="2067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561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826920" y="567000"/>
            <a:ext cx="777744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Используемые материалы и инстр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01"/>
                </a:solidFill>
                <a:latin typeface="roboto"/>
                <a:ea typeface="Arial"/>
              </a:rPr>
              <a:t>  </a:t>
            </a:r>
            <a:r>
              <a:rPr b="0" lang="ru-RU" sz="9500" spc="-1" strike="noStrike">
                <a:solidFill>
                  <a:srgbClr val="010101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010101"/>
                </a:solidFill>
                <a:latin typeface="roboto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Picture 1"/>
          <p:cNvPicPr/>
          <p:nvPr/>
        </p:nvPicPr>
        <p:blipFill>
          <a:blip r:embed="rId1"/>
          <a:stretch/>
        </p:blipFill>
        <p:spPr>
          <a:xfrm>
            <a:off x="611280" y="4365720"/>
            <a:ext cx="2554200" cy="1779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https://www.prodlenka.org/components/com_mtree/attachments/523/523176/63c8dc97259c7411586722.jpg"/>
          <p:cNvPicPr/>
          <p:nvPr/>
        </p:nvPicPr>
        <p:blipFill>
          <a:blip r:embed="rId2"/>
          <a:stretch/>
        </p:blipFill>
        <p:spPr>
          <a:xfrm>
            <a:off x="3851280" y="4376880"/>
            <a:ext cx="981000" cy="2151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https://www.prodlenka.org/components/com_mtree/attachments/523/523176/63c8dc9725845996565418.jpg"/>
          <p:cNvPicPr/>
          <p:nvPr/>
        </p:nvPicPr>
        <p:blipFill>
          <a:blip r:embed="rId3"/>
          <a:stretch/>
        </p:blipFill>
        <p:spPr>
          <a:xfrm>
            <a:off x="5219640" y="4714920"/>
            <a:ext cx="2095560" cy="157176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"/>
          <p:cNvSpPr/>
          <p:nvPr/>
        </p:nvSpPr>
        <p:spPr>
          <a:xfrm>
            <a:off x="611280" y="968400"/>
            <a:ext cx="603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енопластовая основа 8х10 см. (белого цв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печатанный на принтере цветной эскиз герба г. Оленегорск 8х1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зы: синего, голубого, зелёного, жёлтого чёрного 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Полимерный к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есьма, лоток, специальная палочка, нож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C:\Users\Acer\Desktop\olenegorsk.gif"/>
          <p:cNvPicPr/>
          <p:nvPr/>
        </p:nvPicPr>
        <p:blipFill>
          <a:blip r:embed="rId4"/>
          <a:stretch/>
        </p:blipFill>
        <p:spPr>
          <a:xfrm>
            <a:off x="6829560" y="1492200"/>
            <a:ext cx="169524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ЭТАПЫ ИЗГОТОВЛЕНИЯ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24000" y="64260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выполнения герба-панно берем кусок пенопласта и вырезаем из неё основу 8х10с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каждую основу наклеиваем с помощь полимерного клея распечатанный на принтере цветной эскиз герб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лоток высыпаем стразы черного цвета. Смазываем небольшой участок эскиза клеем, с помощью специальной палочки подхватываем из лотка стразу и переносим её на участок, смазанный клеем и прижимае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заполняем всё пространство чёрными стразам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тем на лоток высыпаем зелёные стразы и в такой же последовательности заполняем пространство соответствующего цвета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аким образом заполняется всё цветовое поле эскиза до полного его заполнени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гда герб-панно будет всё заклеено стразами, и чтобы работа  смотрелась, более презентабельно и законченно, её можно обрамить тесьмой жёлтого цвет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4" descr="C:\Users\Acer\Desktop\xRyZVghsHQA.jpg"/>
          <p:cNvPicPr/>
          <p:nvPr/>
        </p:nvPicPr>
        <p:blipFill>
          <a:blip r:embed="rId1"/>
          <a:srcRect l="3654" t="0" r="4850" b="0"/>
          <a:stretch/>
        </p:blipFill>
        <p:spPr>
          <a:xfrm>
            <a:off x="3348000" y="4149720"/>
            <a:ext cx="20876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1:30:29Z</dcterms:created>
  <dc:creator>Женя</dc:creator>
  <dc:description/>
  <dc:language>en-US</dc:language>
  <cp:lastModifiedBy>Пользователь Windows</cp:lastModifiedBy>
  <dcterms:modified xsi:type="dcterms:W3CDTF">2024-05-20T22:29:50Z</dcterms:modified>
  <cp:revision>151</cp:revision>
  <dc:subject/>
  <dc:title>ОФИЦИАЛЬНАЯ СИМВОЛИКА МУРМАНСКОЙ ОБЛАСТИ</dc:title>
</cp:coreProperties>
</file>